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C406-0B59-45A4-A19C-F93974C24A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4092-4D84-4E22-B676-5FDD8026E71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2233-6987-4F5A-8B6B-81B1E0959E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6C3-17D3-49CC-B331-609976475E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9BF-AB3A-4AAE-AD06-D33DB6D5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281C-67B8-45EB-86B9-4E63B97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7BA-7AA6-4142-8DE5-F93D709F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EDC-2ADE-49C2-A9CA-3063942D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597-2296-4449-82FD-A30F23DB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AC9-F9CB-4460-AA37-01A97E23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C5C9-BF72-4E4E-A0D4-973C449A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C06-7EAB-4C2D-AF7C-A89B6F26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6FA-C2D9-44E8-A3D0-310F715E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9D65-543E-4539-B69F-E4EEDD7F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F0B-6F50-4FD4-BA89-4E174F0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485-E99B-402C-BAB9-4B4853B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070B-5187-4921-AFB4-89EBCE5C4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Logo officiel JpG"/>
          <p:cNvPicPr/>
          <p:nvPr/>
        </p:nvPicPr>
        <p:blipFill>
          <a:blip r:embed="rId2"/>
          <a:stretch/>
        </p:blipFill>
        <p:spPr>
          <a:xfrm>
            <a:off x="7667640" y="115920"/>
            <a:ext cx="1238400" cy="120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SANTE S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mosaique"/>
          <p:cNvPicPr/>
          <p:nvPr/>
        </p:nvPicPr>
        <p:blipFill>
          <a:blip r:embed="rId1"/>
          <a:stretch/>
        </p:blipFill>
        <p:spPr>
          <a:xfrm>
            <a:off x="2374920" y="1461960"/>
            <a:ext cx="6769080" cy="539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ADAGASCAR 035"/>
          <p:cNvPicPr/>
          <p:nvPr/>
        </p:nvPicPr>
        <p:blipFill>
          <a:blip r:embed="rId2"/>
          <a:srcRect l="0" t="0" r="0" b="-20"/>
          <a:stretch/>
        </p:blipFill>
        <p:spPr>
          <a:xfrm>
            <a:off x="0" y="1461960"/>
            <a:ext cx="2347920" cy="178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P1010303"/>
          <p:cNvPicPr/>
          <p:nvPr/>
        </p:nvPicPr>
        <p:blipFill>
          <a:blip r:embed="rId3"/>
          <a:srcRect l="26233" t="4271" r="169" b="21874"/>
          <a:stretch/>
        </p:blipFill>
        <p:spPr>
          <a:xfrm>
            <a:off x="0" y="3257640"/>
            <a:ext cx="235116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JPSH 2010 - Droits Hervé Vincent (2)"/>
          <p:cNvPicPr/>
          <p:nvPr/>
        </p:nvPicPr>
        <p:blipFill>
          <a:blip r:embed="rId4"/>
          <a:srcRect l="7173" t="2900" r="0" b="0"/>
          <a:stretch/>
        </p:blipFill>
        <p:spPr>
          <a:xfrm>
            <a:off x="0" y="5075280"/>
            <a:ext cx="23572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épartition des ressourc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program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rcRect l="30049" t="0" r="30269" b="8580"/>
          <a:stretch/>
        </p:blipFill>
        <p:spPr>
          <a:xfrm>
            <a:off x="4844880" y="270180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29711" t="0" r="29829" b="8580"/>
          <a:stretch/>
        </p:blipFill>
        <p:spPr>
          <a:xfrm>
            <a:off x="7107120" y="2701800"/>
            <a:ext cx="1857600" cy="2514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rcRect l="28776" t="0" r="28799" b="0"/>
          <a:stretch/>
        </p:blipFill>
        <p:spPr>
          <a:xfrm>
            <a:off x="2459160" y="2701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Image 2" descr=""/>
          <p:cNvPicPr/>
          <p:nvPr/>
        </p:nvPicPr>
        <p:blipFill>
          <a:blip r:embed="rId4"/>
          <a:srcRect l="29491" t="0" r="29522" b="0"/>
          <a:stretch/>
        </p:blipFill>
        <p:spPr>
          <a:xfrm>
            <a:off x="179280" y="2701800"/>
            <a:ext cx="1871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5"/>
          <p:cNvSpPr/>
          <p:nvPr/>
        </p:nvSpPr>
        <p:spPr>
          <a:xfrm>
            <a:off x="71280" y="2276640"/>
            <a:ext cx="901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rebuchet MS"/>
              </a:rPr>
              <a:t>Les difficultés financières rencont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ragilité Inter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2532240"/>
            <a:ext cx="864216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2006 :  Arrêt brutal </a:t>
            </a: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des financements européen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(après  20 ans  de 100 % de réuss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bsence de </a:t>
            </a: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FONDS PROP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Actions menées de 2006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à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versification des baill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écentralisation ( renforcement des 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ise en place d’une Direction de 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stations d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Efforts non récompensés 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6612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rebuchet MS"/>
              </a:rPr>
              <a:t>2009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:  Déséquilibre d’exploi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Trebuchet MS"/>
              </a:rPr>
              <a:t>2010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:  Licenciement au siège et litige avec UE Pé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Fragilité Exter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Contexte économique international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lus  de concurrence et moins de fin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fficulté chronique à développer nos fonds  prop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illite et/ou fusion- absorption d’autres ONG à   taille et thématique ident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Recherche d’alliance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2287080"/>
            <a:ext cx="8713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400" spc="-1" strike="noStrike">
                <a:solidFill>
                  <a:srgbClr val="ff3300"/>
                </a:solidFill>
                <a:latin typeface="Trebuchet MS"/>
              </a:rPr>
              <a:t>Alerte au CA 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: saturation  de l’équipe RH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400" spc="-1" strike="noStrike">
                <a:solidFill>
                  <a:srgbClr val="ff3300"/>
                </a:solidFill>
                <a:latin typeface="Trebuchet MS"/>
              </a:rPr>
              <a:t>Ecart</a:t>
            </a: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 entre ambitions et moyens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Trebuchet MS"/>
              </a:rPr>
              <a:t>Se développer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vec des moy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Trebuchet MS"/>
              </a:rPr>
              <a:t>Réduire la voilur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(et mourir à petit fe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oyens utilises pour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hercher les alli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4604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Trebuchet MS"/>
              </a:rPr>
              <a:t>Etudes   organisationnell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( FRIO 2009 et 20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6600"/>
                </a:solidFill>
                <a:latin typeface="Trebuchet MS"/>
              </a:rPr>
              <a:t>Réflexio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mené en COPIL STRATEGIE, Bureau et C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200" spc="-1" strike="noStrike">
                <a:solidFill>
                  <a:srgbClr val="ff6600"/>
                </a:solidFill>
                <a:latin typeface="Trebuchet MS"/>
              </a:rPr>
              <a:t>Benchmarking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: alliances straté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5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C:\Documents and Settings\Pascal FAUCHER\Local Settings\Temporary Internet Files\Content.IE5\M0Q8HD0V\MC900434407[1].wmf"/>
          <p:cNvPicPr/>
          <p:nvPr/>
        </p:nvPicPr>
        <p:blipFill>
          <a:blip r:embed="rId1"/>
          <a:stretch/>
        </p:blipFill>
        <p:spPr>
          <a:xfrm>
            <a:off x="3276720" y="5516640"/>
            <a:ext cx="360360" cy="37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25640" y="5442120"/>
            <a:ext cx="213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é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Rencontre avec l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Groupe 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Un réseau  d’associations constitué de  </a:t>
            </a: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44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  entités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ères et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9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filiales,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30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établissements,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0 000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lariés, budget de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560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M€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Jeunesse, emploi, solidarités, santé, seni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Activités en Fr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ans but lucra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Wingdings"/>
                <a:ea typeface="Wingdings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conomie sociale et solida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e processus d’adoss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3640" y="1855800"/>
            <a:ext cx="866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Trebuchet MS"/>
              </a:rPr>
              <a:t>Contac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vec le Groupe SOS (201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Trebuchet MS"/>
              </a:rPr>
              <a:t>Echanges et études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s modalités de rapproch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( 2011 – 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Trebuchet MS"/>
              </a:rPr>
              <a:t>Communicatio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uprès de l’AG (01- 05 /201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i 2012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GO  : </a:t>
            </a:r>
            <a:r>
              <a:rPr b="0" lang="en-US" sz="2600" spc="-1" strike="noStrike">
                <a:solidFill>
                  <a:srgbClr val="ff6600"/>
                </a:solidFill>
                <a:latin typeface="Trebuchet MS"/>
              </a:rPr>
              <a:t>Aval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des membres act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ff6600"/>
                </a:solidFill>
                <a:latin typeface="Trebuchet MS"/>
              </a:rPr>
              <a:t>Signature du protocol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’accord  avec le Groupe 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uin 2012 :  CA et AG de </a:t>
            </a:r>
            <a:r>
              <a:rPr b="0" lang="en-US" sz="2600" spc="-1" strike="noStrike">
                <a:solidFill>
                  <a:srgbClr val="ff6600"/>
                </a:solidFill>
                <a:latin typeface="Trebuchet MS"/>
              </a:rPr>
              <a:t>modification statut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18"/>
          <p:cNvSpPr/>
          <p:nvPr/>
        </p:nvSpPr>
        <p:spPr>
          <a:xfrm>
            <a:off x="1403280" y="1052640"/>
            <a:ext cx="721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5" descr="madagascar"/>
          <p:cNvPicPr/>
          <p:nvPr/>
        </p:nvPicPr>
        <p:blipFill>
          <a:blip r:embed="rId1"/>
          <a:stretch/>
        </p:blipFill>
        <p:spPr>
          <a:xfrm>
            <a:off x="611280" y="1989000"/>
            <a:ext cx="2993760" cy="4326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" name="Rectangle 11"/>
          <p:cNvSpPr/>
          <p:nvPr/>
        </p:nvSpPr>
        <p:spPr>
          <a:xfrm>
            <a:off x="4037040" y="2190600"/>
            <a:ext cx="46641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74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réée en 1984 à Marseille par des professionnels du secteur médical et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Objectif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Améliorer l’accès à des soins de qualité pour les populations défavorisées, isolées et/ou vulnérabili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74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037040" y="4925880"/>
            <a:ext cx="446400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88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pécialisée da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88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e renforcement de compétences  des R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88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accompagnement de projet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5720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rebuchet MS"/>
              </a:rPr>
              <a:t>Santé S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4"/>
          <p:cNvSpPr/>
          <p:nvPr/>
        </p:nvSpPr>
        <p:spPr>
          <a:xfrm>
            <a:off x="6570720" y="50864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202360" y="3492360"/>
            <a:ext cx="2950920" cy="794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gane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ésident de Santé S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eur de  Santé S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202360" y="4568760"/>
            <a:ext cx="2950920" cy="581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eur Géné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anté S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7723080" y="4078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6"/>
          <p:cNvSpPr/>
          <p:nvPr/>
        </p:nvSpPr>
        <p:spPr>
          <a:xfrm>
            <a:off x="4986360" y="5470560"/>
            <a:ext cx="3600360" cy="1191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ion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élégation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ice Gestion/compt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necteur droit 64"/>
          <p:cNvSpPr/>
          <p:nvPr/>
        </p:nvSpPr>
        <p:spPr>
          <a:xfrm>
            <a:off x="2754360" y="5230800"/>
            <a:ext cx="2197080" cy="8287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570720" y="32148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89720" y="90360"/>
            <a:ext cx="755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Santé Sud filialisé person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mo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719280" y="3106800"/>
            <a:ext cx="2754000" cy="682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ut Conseil de Pilo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personnes élues par les « Assises 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8"/>
          <p:cNvSpPr/>
          <p:nvPr/>
        </p:nvSpPr>
        <p:spPr>
          <a:xfrm>
            <a:off x="684360" y="4221000"/>
            <a:ext cx="2788920" cy="244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até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uveaux programm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E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ts associati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éférents programm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ES DE TRAV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C, Capitalisation, évènement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énévoles sièg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té Sud Info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pathisan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736560" y="1557360"/>
            <a:ext cx="2808360" cy="115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ES ANNU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E S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 Intervenants Associatif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6570720" y="2925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6570720" y="429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6570720" y="5157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3473280" y="3357720"/>
            <a:ext cx="1729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2033640" y="2709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2"/>
          <p:cNvSpPr/>
          <p:nvPr/>
        </p:nvSpPr>
        <p:spPr>
          <a:xfrm flipH="1">
            <a:off x="3472920" y="4797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2033640" y="3789360"/>
            <a:ext cx="0" cy="433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913280" y="1630440"/>
            <a:ext cx="3168720" cy="1464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 de SANTE S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s 3 associations mères du Gr. 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Prévention et soins des addi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Habitat et 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Insertion et Altern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63480" y="24634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utonomie managér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rsonnalité morale + RUP intac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toriété, savoir-faire, histoire conserv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ie associative valoris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ppui technique et financier du Groupe 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3004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OBJECTIF Stratégique </a:t>
            </a:r>
            <a:br>
              <a:rPr sz="4800"/>
            </a:b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9280" y="5508720"/>
            <a:ext cx="878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rebuchet MS"/>
              </a:rPr>
              <a:t>Maintien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rebuchet MS"/>
              </a:rPr>
              <a:t>développement des programmes de Santé 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324000" y="24940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24000" y="310500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24000" y="371628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24000" y="436572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1554120"/>
            <a:ext cx="91440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rebuchet MS"/>
              </a:rPr>
              <a:t>« Se donner les moyens de nos ambitions »</a:t>
            </a:r>
            <a:br>
              <a:rPr sz="20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257040" y="5446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rebuchet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Persp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0920" y="1628280"/>
            <a:ext cx="903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rebuchet MS"/>
              </a:rPr>
              <a:t>2012 : équilibre budgé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 Un budget à plus de 2,6 M€, dont 1,94 d’activités ter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 Un taux de financement privé dépassant 2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 Un nombre record de bailleurs privés :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ut cela dans un contexte institutionnel et économique toujours délicat et contraig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rebuchet MS"/>
              </a:rPr>
              <a:t>2013: croissance engag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 budget prévisionnel de développement (plan sur 3 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ers un nouveau projet associatif … et économiqu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C:\Documents and Settings\Pascal FAUCHER\Local Settings\Temporary Internet Files\Content.IE5\NKV7S084\MC900423171[1].wmf"/>
          <p:cNvPicPr/>
          <p:nvPr/>
        </p:nvPicPr>
        <p:blipFill>
          <a:blip r:embed="rId1"/>
          <a:stretch/>
        </p:blipFill>
        <p:spPr>
          <a:xfrm>
            <a:off x="468360" y="234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C:\Documents and Settings\Pascal FAUCHER\Local Settings\Temporary Internet Files\Content.IE5\M0Q8HD0V\MC900434407[1].wmf"/>
          <p:cNvPicPr/>
          <p:nvPr/>
        </p:nvPicPr>
        <p:blipFill>
          <a:blip r:embed="rId2"/>
          <a:stretch/>
        </p:blipFill>
        <p:spPr>
          <a:xfrm>
            <a:off x="468360" y="4005360"/>
            <a:ext cx="360360" cy="37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Documents and Settings\Pascal FAUCHER\Local Settings\Temporary Internet Files\Content.IE5\NKV7S084\MC900423171[1].wmf"/>
          <p:cNvPicPr/>
          <p:nvPr/>
        </p:nvPicPr>
        <p:blipFill>
          <a:blip r:embed="rId3"/>
          <a:stretch/>
        </p:blipFill>
        <p:spPr>
          <a:xfrm>
            <a:off x="468360" y="2925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Documents and Settings\Pascal FAUCHER\Local Settings\Temporary Internet Files\Content.IE5\NKV7S084\MC900423171[1].wmf"/>
          <p:cNvPicPr/>
          <p:nvPr/>
        </p:nvPicPr>
        <p:blipFill>
          <a:blip r:embed="rId4"/>
          <a:stretch/>
        </p:blipFill>
        <p:spPr>
          <a:xfrm>
            <a:off x="466560" y="34369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7259760" cy="5445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5699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Des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4176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« Agir sans remplacer 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ADAGASCAR 035"/>
          <p:cNvPicPr/>
          <p:nvPr/>
        </p:nvPicPr>
        <p:blipFill>
          <a:blip r:embed="rId1"/>
          <a:srcRect l="0" t="0" r="0" b="1456"/>
          <a:stretch/>
        </p:blipFill>
        <p:spPr>
          <a:xfrm>
            <a:off x="1763640" y="2060640"/>
            <a:ext cx="5545080" cy="424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s bébé"/>
          <p:cNvPicPr/>
          <p:nvPr/>
        </p:nvPicPr>
        <p:blipFill>
          <a:blip r:embed="rId1"/>
          <a:srcRect l="1837" t="0" r="5484" b="52261"/>
          <a:stretch/>
        </p:blipFill>
        <p:spPr>
          <a:xfrm>
            <a:off x="0" y="-27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8"/>
          <p:cNvSpPr/>
          <p:nvPr/>
        </p:nvSpPr>
        <p:spPr>
          <a:xfrm>
            <a:off x="1979640" y="765000"/>
            <a:ext cx="517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603680" y="2319480"/>
            <a:ext cx="3948120" cy="6426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 co construction avec des partenaires loc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9640" y="2935440"/>
            <a:ext cx="2884680" cy="2761920"/>
          </a:xfrm>
          <a:prstGeom prst="ellipse">
            <a:avLst/>
          </a:prstGeom>
          <a:solidFill>
            <a:srgbClr val="ff6600"/>
          </a:solidFill>
          <a:ln w="442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8"/>
          <p:cNvCxnSpPr>
            <a:stCxn id="67" idx="6"/>
          </p:cNvCxnSpPr>
          <p:nvPr/>
        </p:nvCxnSpPr>
        <p:spPr>
          <a:xfrm flipV="1">
            <a:off x="3423960" y="2534760"/>
            <a:ext cx="1176840" cy="1782000"/>
          </a:xfrm>
          <a:prstGeom prst="straightConnector1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69" name="AutoShape 9"/>
          <p:cNvCxnSpPr>
            <a:stCxn id="67" idx="6"/>
          </p:cNvCxnSpPr>
          <p:nvPr/>
        </p:nvCxnSpPr>
        <p:spPr>
          <a:xfrm>
            <a:off x="3423960" y="4316040"/>
            <a:ext cx="1145160" cy="1080"/>
          </a:xfrm>
          <a:prstGeom prst="straightConnector1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70" name="Text Box 3"/>
          <p:cNvSpPr/>
          <p:nvPr/>
        </p:nvSpPr>
        <p:spPr>
          <a:xfrm>
            <a:off x="4579920" y="3173400"/>
            <a:ext cx="3971880" cy="283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n privilégiant quatre outil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1/ - La formation des professionnels d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-  La formation des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- La formation de form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2/ Le renforcement des capac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institutionnel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3/ La mise en rés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rebuchet MS"/>
              </a:rPr>
              <a:t>4/ La sensibilisation de l’opinion   publique et le plaido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9"/>
          <p:cNvCxnSpPr>
            <a:stCxn id="67" idx="6"/>
          </p:cNvCxnSpPr>
          <p:nvPr/>
        </p:nvCxnSpPr>
        <p:spPr>
          <a:xfrm>
            <a:off x="3423960" y="4316400"/>
            <a:ext cx="1145160" cy="1505520"/>
          </a:xfrm>
          <a:prstGeom prst="straightConnector1">
            <a:avLst/>
          </a:prstGeom>
          <a:ln w="4140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72" name="Text Box 6"/>
          <p:cNvSpPr/>
          <p:nvPr/>
        </p:nvSpPr>
        <p:spPr>
          <a:xfrm>
            <a:off x="789120" y="3403440"/>
            <a:ext cx="2441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Santé Sud a élaboré plus de 130 projets pér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dans 23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-41760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« Agir sans remplacer 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Logo officiel JpG"/>
          <p:cNvPicPr/>
          <p:nvPr/>
        </p:nvPicPr>
        <p:blipFill>
          <a:blip r:embed="rId1"/>
          <a:stretch/>
        </p:blipFill>
        <p:spPr>
          <a:xfrm>
            <a:off x="7667640" y="115920"/>
            <a:ext cx="1238400" cy="1208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10680" y="2131560"/>
            <a:ext cx="85820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3600" spc="-1" strike="noStrike">
                <a:solidFill>
                  <a:srgbClr val="ff6600"/>
                </a:solidFill>
                <a:latin typeface="Trebuchet MS"/>
              </a:rPr>
              <a:t>46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salariés dans </a:t>
            </a:r>
            <a:r>
              <a:rPr b="1" lang="en-US" sz="3600" spc="-1" strike="noStrike">
                <a:solidFill>
                  <a:srgbClr val="ff6600"/>
                </a:solidFill>
                <a:latin typeface="Trebuchet MS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délégations loc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ont </a:t>
            </a:r>
            <a:r>
              <a:rPr b="1" lang="en-US" sz="3600" spc="-1" strike="noStrike">
                <a:solidFill>
                  <a:srgbClr val="ff6600"/>
                </a:solidFill>
                <a:latin typeface="Trebuchet MS"/>
              </a:rPr>
              <a:t>14</a:t>
            </a:r>
            <a:r>
              <a:rPr b="0" lang="en-US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salariés au siè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en-US" sz="3600" spc="-1" strike="noStrike">
                <a:solidFill>
                  <a:srgbClr val="ff6600"/>
                </a:solidFill>
                <a:latin typeface="Trebuchet MS"/>
              </a:rPr>
              <a:t>300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intervenants associatifs bénévoles issus de </a:t>
            </a:r>
            <a:r>
              <a:rPr b="1" lang="en-US" sz="3600" spc="-1" strike="noStrike">
                <a:solidFill>
                  <a:srgbClr val="ff6600"/>
                </a:solidFill>
                <a:latin typeface="Trebuchet MS"/>
              </a:rPr>
              <a:t>31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mét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-1692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ebuchet MS"/>
              </a:rPr>
              <a:t>Les Equi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8"/>
          <p:cNvSpPr/>
          <p:nvPr/>
        </p:nvSpPr>
        <p:spPr>
          <a:xfrm>
            <a:off x="1403280" y="1052640"/>
            <a:ext cx="721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1989000"/>
            <a:ext cx="70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Trebuchet MS"/>
              </a:rPr>
              <a:t>4 domaines d’intervention</a:t>
            </a:r>
            <a:r>
              <a:rPr b="1" lang="en-US" sz="2400" spc="-1" strike="noStrike">
                <a:solidFill>
                  <a:srgbClr val="ff6600"/>
                </a:solidFill>
                <a:latin typeface="Trebuchet MS"/>
              </a:rPr>
              <a:t>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24000" y="2905200"/>
            <a:ext cx="851688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ser les systèmes de santé : </a:t>
            </a: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Mongolie - Mauritanie – Comores- Séné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édicalisation des zones rurales : </a:t>
            </a: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Mali - Madagascar - Bénin – Gui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éduction de la marginalisation  des personnes vulnérables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Algérie – Liban- Tunisie - Maroc - Mali- Niger- Sénégal- Maurit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Éducation au développement : </a:t>
            </a:r>
            <a:r>
              <a:rPr b="1" lang="en-US" sz="2000" spc="-1" strike="noStrike">
                <a:solidFill>
                  <a:srgbClr val="ff6600"/>
                </a:solidFill>
                <a:latin typeface="Trebuchet MS"/>
              </a:rPr>
              <a:t>France </a:t>
            </a: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gentine, Burkina Faso, Guinée, Mar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312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es Domaines d’interven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et d’expert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5" descr="carte mise à jour janvier 2013"/>
          <p:cNvPicPr/>
          <p:nvPr/>
        </p:nvPicPr>
        <p:blipFill>
          <a:blip r:embed="rId1"/>
          <a:stretch/>
        </p:blipFill>
        <p:spPr>
          <a:xfrm>
            <a:off x="1022400" y="1844640"/>
            <a:ext cx="6975360" cy="4318200"/>
          </a:xfrm>
          <a:prstGeom prst="rect">
            <a:avLst/>
          </a:prstGeom>
          <a:ln w="0">
            <a:noFill/>
          </a:ln>
        </p:spPr>
      </p:pic>
      <p:sp>
        <p:nvSpPr>
          <p:cNvPr id="82" name="ZoneTexte 18"/>
          <p:cNvSpPr/>
          <p:nvPr/>
        </p:nvSpPr>
        <p:spPr>
          <a:xfrm>
            <a:off x="1403280" y="1052640"/>
            <a:ext cx="721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\\Serveur\sante sud\Communication\Communication institutionnelle\présentation - institutionnel et programmes\dépliant grand public\dépliant 2008-2010\photos\mongolie.tif"/>
          <p:cNvPicPr/>
          <p:nvPr/>
        </p:nvPicPr>
        <p:blipFill>
          <a:blip r:embed="rId2"/>
          <a:stretch/>
        </p:blipFill>
        <p:spPr>
          <a:xfrm>
            <a:off x="125280" y="2168640"/>
            <a:ext cx="1495440" cy="1260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4" name="Picture 7" descr="\\Serveur\sante sud\Communication\Communication institutionnelle\présentation - institutionnel et programmes\dépliant grand public\dépliant 2008-2010\photos\seydou.tif"/>
          <p:cNvPicPr/>
          <p:nvPr/>
        </p:nvPicPr>
        <p:blipFill>
          <a:blip r:embed="rId3"/>
          <a:stretch/>
        </p:blipFill>
        <p:spPr>
          <a:xfrm>
            <a:off x="7137360" y="5006880"/>
            <a:ext cx="1827360" cy="1446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5" name="Picture 8" descr="\\Serveur\sante sud\Communication\Communication institutionnelle\présentation - institutionnel et programmes\dépliant grand public\dépliant 2008-2010\photos\tunisie.tif"/>
          <p:cNvPicPr/>
          <p:nvPr/>
        </p:nvPicPr>
        <p:blipFill>
          <a:blip r:embed="rId4"/>
          <a:stretch/>
        </p:blipFill>
        <p:spPr>
          <a:xfrm>
            <a:off x="152280" y="4078440"/>
            <a:ext cx="936720" cy="12888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86" name="Picture 13" descr="\\Serveur\sante sud\Photos-Vidéos-Biblio\Photos\France\evenements France\JPSH 2010\photos droits Hervé VINCENT (Appel Durance)\19112010-IMG_3661 réduite.jpg"/>
          <p:cNvPicPr/>
          <p:nvPr/>
        </p:nvPicPr>
        <p:blipFill>
          <a:blip r:embed="rId5"/>
          <a:stretch/>
        </p:blipFill>
        <p:spPr>
          <a:xfrm>
            <a:off x="7203960" y="2133720"/>
            <a:ext cx="1592280" cy="1152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7" name="Rectangle 2"/>
          <p:cNvSpPr/>
          <p:nvPr/>
        </p:nvSpPr>
        <p:spPr>
          <a:xfrm>
            <a:off x="-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Santé Sud dans le Mo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720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L’activité économique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Santé Sud</a:t>
            </a:r>
            <a:br>
              <a:rPr sz="48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1" descr=""/>
          <p:cNvPicPr/>
          <p:nvPr/>
        </p:nvPicPr>
        <p:blipFill>
          <a:blip r:embed="rId1"/>
          <a:stretch/>
        </p:blipFill>
        <p:spPr>
          <a:xfrm>
            <a:off x="816120" y="2206800"/>
            <a:ext cx="7500960" cy="4751280"/>
          </a:xfrm>
          <a:prstGeom prst="rect">
            <a:avLst/>
          </a:prstGeom>
          <a:ln w="0">
            <a:noFill/>
          </a:ln>
        </p:spPr>
      </p:pic>
      <p:pic>
        <p:nvPicPr>
          <p:cNvPr id="90" name="Image 2" descr=""/>
          <p:cNvPicPr/>
          <p:nvPr/>
        </p:nvPicPr>
        <p:blipFill>
          <a:blip r:embed="rId2"/>
          <a:stretch/>
        </p:blipFill>
        <p:spPr>
          <a:xfrm>
            <a:off x="2987640" y="5504040"/>
            <a:ext cx="4349880" cy="228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2068920" y="1484280"/>
            <a:ext cx="49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rebuchet MS"/>
              </a:rPr>
              <a:t>BILAN 2012 : 2,6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09:30:09Z</dcterms:created>
  <dc:creator>Sante Sud</dc:creator>
  <dc:description/>
  <dc:language>en-US</dc:language>
  <cp:lastModifiedBy>Sante Sud</cp:lastModifiedBy>
  <dcterms:modified xsi:type="dcterms:W3CDTF">2013-06-17T16:28:11Z</dcterms:modified>
  <cp:revision>26</cp:revision>
  <dc:subject/>
  <dc:title>Agir sans remplacer</dc:title>
</cp:coreProperties>
</file>